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BA8DB-F07B-4C42-AF2E-DA010702D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3419C-94EA-462F-AAFE-9742AAA2A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D421B-239B-400A-A1F5-6E3CD994E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59D69-8191-4F41-B77C-9E8FE70EE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6F135-C10B-4128-81AC-42752EBC1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B49C2-D285-4241-80C3-1587115D3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7CB27-CA49-4005-A16A-6DED267E6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0BF4A-4170-4D2E-8890-C23FEE255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49C52-560A-4A22-98F1-317029540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601B0-7426-426F-81A1-729552E28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52B26-A6DB-4DEA-8406-D69795345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499EC-BD3A-4D7E-A2A0-15C609397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3DA6F-D237-47B3-B5B8-EF79731320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eRlY0pZhtao" TargetMode="Externa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Footlight MT Light"/>
              </a:rPr>
              <a:t>Nonfiction in K-2 Classroom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762120" y="2133720"/>
            <a:ext cx="1828800" cy="1541520"/>
          </a:xfrm>
          <a:prstGeom prst="rect">
            <a:avLst/>
          </a:prstGeom>
          <a:ln w="0">
            <a:noFill/>
          </a:ln>
        </p:spPr>
      </p:pic>
      <p:sp>
        <p:nvSpPr>
          <p:cNvPr id="43" name="Text Box 4"/>
          <p:cNvSpPr/>
          <p:nvPr/>
        </p:nvSpPr>
        <p:spPr>
          <a:xfrm>
            <a:off x="3429000" y="2590920"/>
            <a:ext cx="3581280" cy="28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5" descr=""/>
          <p:cNvPicPr/>
          <p:nvPr/>
        </p:nvPicPr>
        <p:blipFill>
          <a:blip r:embed="rId2"/>
          <a:stretch/>
        </p:blipFill>
        <p:spPr>
          <a:xfrm>
            <a:off x="3733920" y="1752480"/>
            <a:ext cx="1828800" cy="15624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"/>
          <p:cNvPicPr/>
          <p:nvPr/>
        </p:nvPicPr>
        <p:blipFill>
          <a:blip r:embed="rId3"/>
          <a:stretch/>
        </p:blipFill>
        <p:spPr>
          <a:xfrm>
            <a:off x="6781680" y="1981080"/>
            <a:ext cx="1676520" cy="14781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"/>
          <p:cNvPicPr/>
          <p:nvPr/>
        </p:nvPicPr>
        <p:blipFill>
          <a:blip r:embed="rId4"/>
          <a:stretch/>
        </p:blipFill>
        <p:spPr>
          <a:xfrm>
            <a:off x="3124080" y="4114800"/>
            <a:ext cx="1600200" cy="17524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8" descr=""/>
          <p:cNvPicPr/>
          <p:nvPr/>
        </p:nvPicPr>
        <p:blipFill>
          <a:blip r:embed="rId5"/>
          <a:stretch/>
        </p:blipFill>
        <p:spPr>
          <a:xfrm>
            <a:off x="7315200" y="472428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9" descr=""/>
          <p:cNvPicPr/>
          <p:nvPr/>
        </p:nvPicPr>
        <p:blipFill>
          <a:blip r:embed="rId6"/>
          <a:stretch/>
        </p:blipFill>
        <p:spPr>
          <a:xfrm>
            <a:off x="990720" y="4648320"/>
            <a:ext cx="1495440" cy="16761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0" descr=""/>
          <p:cNvPicPr/>
          <p:nvPr/>
        </p:nvPicPr>
        <p:blipFill>
          <a:blip r:embed="rId7"/>
          <a:stretch/>
        </p:blipFill>
        <p:spPr>
          <a:xfrm>
            <a:off x="5334120" y="4114800"/>
            <a:ext cx="140796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Footlight MT Light"/>
              </a:rPr>
              <a:t>Implement Toda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ootlight MT Light"/>
              </a:rPr>
              <a:t>Start small… what are two strategies you can implement today in your classroom?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ootlight MT Light"/>
              </a:rPr>
              <a:t>Collaborate with colleag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ootlight MT Light"/>
              </a:rPr>
              <a:t>Keep it simple.  You can always build on a concept for the next time around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1371600" y="449568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"/>
          <p:cNvPicPr/>
          <p:nvPr/>
        </p:nvPicPr>
        <p:blipFill>
          <a:blip r:embed="rId2"/>
          <a:stretch/>
        </p:blipFill>
        <p:spPr>
          <a:xfrm>
            <a:off x="5410080" y="4495680"/>
            <a:ext cx="21430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Footlight MT Light"/>
              </a:rPr>
              <a:t>What is Nonfic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ootlight MT Light"/>
              </a:rPr>
              <a:t>When a person hears nonfiction they most likely think of a textboo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ootlight MT Light"/>
              </a:rPr>
              <a:t>However, nonfiction is prose writing based on fa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"/>
          <p:cNvPicPr/>
          <p:nvPr/>
        </p:nvPicPr>
        <p:blipFill>
          <a:blip r:embed="rId1"/>
          <a:stretch/>
        </p:blipFill>
        <p:spPr>
          <a:xfrm>
            <a:off x="2362320" y="3505320"/>
            <a:ext cx="391320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Footlight MT Light"/>
              </a:rPr>
              <a:t>Why is Nonfiction Importa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ootlight MT Light"/>
              </a:rPr>
              <a:t>Addresses student’s inter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Footlight MT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ootlight MT Light"/>
              </a:rPr>
              <a:t>Naturally curious about the world around th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ootlight MT Light"/>
              </a:rPr>
              <a:t>Increases background knowle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Footlight MT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ootlight MT Light"/>
              </a:rPr>
              <a:t>Expands vocabulary and knowledge on topics throughout the worl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ootlight MT Light"/>
              </a:rPr>
              <a:t>Prepares students for later gra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Footlight MT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ootlight MT Light"/>
              </a:rPr>
              <a:t>Teaches how to read information, pull out the main idea and supporting detail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300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4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Footlight MT Light"/>
              </a:rPr>
              <a:t>Start at an Early Ag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ootlight MT Light"/>
              </a:rPr>
              <a:t>Exposing students to nonfi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ootlight MT Light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Footlight MT Light"/>
              </a:rPr>
              <a:t>literature in preschool and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ootlight MT Light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Footlight MT Light"/>
              </a:rPr>
              <a:t>primary grades will benefit them in their futur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ootlight MT Light"/>
              </a:rPr>
              <a:t>The video below will discuss some important steps to remember when choosing nonfiction boo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Arial"/>
                <a:hlinkClick r:id="rId1"/>
              </a:rPr>
              <a:t>http://www.youtube.com/watch?v=eRlY0pZhta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7" descr=""/>
          <p:cNvPicPr/>
          <p:nvPr/>
        </p:nvPicPr>
        <p:blipFill>
          <a:blip r:embed="rId2"/>
          <a:stretch/>
        </p:blipFill>
        <p:spPr>
          <a:xfrm>
            <a:off x="6172200" y="228600"/>
            <a:ext cx="274320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Footlight MT Light"/>
              </a:rPr>
              <a:t>Strategies For Classroom Us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ootlight MT Light"/>
              </a:rPr>
              <a:t>Implementing something new in the classroom usually leads to obstac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Footlight MT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ootlight MT Light"/>
              </a:rPr>
              <a:t>Time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Footlight MT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ootlight MT Light"/>
              </a:rPr>
              <a:t>Stand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Footlight MT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ootlight MT Light"/>
              </a:rPr>
              <a:t>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ootlight MT Light"/>
              </a:rPr>
              <a:t>Three models for teaching nonfiction inclu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Footlight MT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ootlight MT Light"/>
              </a:rPr>
              <a:t>Teacher directed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Footlight MT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ootlight MT Light"/>
              </a:rPr>
              <a:t>Scaffold student investig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Footlight MT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ootlight MT Light"/>
              </a:rPr>
              <a:t>Independent student investig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4"/>
          <p:cNvSpPr/>
          <p:nvPr/>
        </p:nvSpPr>
        <p:spPr>
          <a:xfrm>
            <a:off x="533520" y="5183280"/>
            <a:ext cx="8076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Footlight MT Light"/>
              </a:rPr>
              <a:t>Activities for Classroom Us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Footlight MT Light"/>
              </a:rPr>
              <a:t>Kindergarten Activities</a:t>
            </a:r>
            <a:r>
              <a:rPr b="0" lang="en-US" sz="2000" spc="-1" strike="noStrike">
                <a:solidFill>
                  <a:srgbClr val="000000"/>
                </a:solidFill>
                <a:latin typeface="Footlight MT Ligh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ootlight MT Light"/>
              </a:rPr>
              <a:t>KWL Char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ootlight MT Light"/>
              </a:rPr>
              <a:t>Read Aloud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ootlight MT Light"/>
              </a:rPr>
              <a:t>Scholastic, Weekly Reader, Mailbox, Discovery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ootlight MT Light"/>
              </a:rPr>
              <a:t>Reader's Theat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ootlight MT Light"/>
              </a:rPr>
              <a:t>Vocabulary Develo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ootlight MT Light"/>
              </a:rPr>
              <a:t>Main idea, details, determining import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ootlight MT Light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Footlight MT Light"/>
              </a:rPr>
              <a:t>First and Second Grade Activities</a:t>
            </a:r>
            <a:r>
              <a:rPr b="0" lang="en-US" sz="2000" spc="-1" strike="noStrike">
                <a:solidFill>
                  <a:srgbClr val="000000"/>
                </a:solidFill>
                <a:latin typeface="Footlight MT Ligh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ootlight MT Light"/>
              </a:rPr>
              <a:t>Graphic Organiz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ootlight MT Light"/>
              </a:rPr>
              <a:t>3-2-1 ch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ootlight MT Light"/>
              </a:rPr>
              <a:t>Cloze Proced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ootlight MT Light"/>
              </a:rPr>
              <a:t>Idea circles--peer led discus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ootlight MT Light"/>
              </a:rPr>
              <a:t>Quick wri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ootlight MT Light"/>
              </a:rPr>
              <a:t>Strategies for Reading Onlin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ootlight MT Light"/>
              </a:rPr>
              <a:t>Research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000"/>
                            </p:stCondLst>
                            <p:childTnLst>
                              <p:par>
                                <p:cTn id="39" nodeType="afterEffect" fill="hold" presetClass="entr" presetID="1" repeatCount="100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6000"/>
                            </p:stCondLst>
                            <p:childTnLst>
                              <p:par>
                                <p:cTn id="42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Footlight MT Light"/>
              </a:rPr>
              <a:t>Activities for Classroom Us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114800" y="2209680"/>
            <a:ext cx="46483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ootlight MT Light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Footlight MT Light"/>
              </a:rPr>
              <a:t>Learning Logs- Are used as a wri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ootlight MT Light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Footlight MT Light"/>
              </a:rPr>
              <a:t>activity and can be a form of communication between the student and teacher. These notebooks record information on a specific topic and 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ootlight MT Light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Footlight MT Light"/>
              </a:rPr>
              <a:t>on going throughout the school year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685800" y="1066680"/>
            <a:ext cx="32004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ootlight MT Light"/>
              </a:rPr>
              <a:t>Podcasts- Can be used to learn information on a topic.  Students can gain exposure to technology through the creation of their own podcasts on different topic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6"/>
          <p:cNvSpPr/>
          <p:nvPr/>
        </p:nvSpPr>
        <p:spPr>
          <a:xfrm>
            <a:off x="457200" y="4038480"/>
            <a:ext cx="3886200" cy="31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ootlight MT Light"/>
              </a:rPr>
              <a:t>Text Features- Are features in a nonfiction book that provide extra details to the reader.  Text features treasure hunts provide students a fun way to recognize text features in a variety of nonfiction book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000"/>
                            </p:stCondLst>
                            <p:childTnLst>
                              <p:par>
                                <p:cTn id="77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6000"/>
                            </p:stCondLst>
                            <p:childTnLst>
                              <p:par>
                                <p:cTn id="84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Footlight MT Light"/>
              </a:rPr>
              <a:t>Time to Practic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ootlight MT Light"/>
              </a:rPr>
              <a:t>We are going to read a nonfiction story aloud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ootlight MT Light"/>
              </a:rPr>
              <a:t>As we read _____________ think about following ques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ootlight MT Light"/>
              </a:rPr>
              <a:t>You will respond to them in a learning log format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800" spc="-1" strike="noStrike">
                <a:solidFill>
                  <a:srgbClr val="000000"/>
                </a:solidFill>
                <a:latin typeface="Footlight MT Light"/>
              </a:rPr>
              <a:t>Learning Lo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ootlight MT Light"/>
              </a:rPr>
              <a:t>Why did the author write the boo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ootlight MT Light"/>
              </a:rPr>
              <a:t>What did you know before ha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ootlight MT Light"/>
              </a:rPr>
              <a:t>How can you connect this to your lif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ootlight MT Light"/>
              </a:rPr>
              <a:t>What was one new thing you learn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ootlight MT Light"/>
              </a:rPr>
              <a:t>What questions do you still hav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ootlight MT Light"/>
              </a:rPr>
              <a:t>Summariz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"/>
          <p:cNvPicPr/>
          <p:nvPr/>
        </p:nvPicPr>
        <p:blipFill>
          <a:blip r:embed="rId1"/>
          <a:stretch/>
        </p:blipFill>
        <p:spPr>
          <a:xfrm>
            <a:off x="6477120" y="4495680"/>
            <a:ext cx="2171520" cy="21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9T23:16:32Z</dcterms:created>
  <dc:creator> </dc:creator>
  <dc:description/>
  <dc:language>en-US</dc:language>
  <cp:lastModifiedBy> </cp:lastModifiedBy>
  <dcterms:modified xsi:type="dcterms:W3CDTF">2011-12-05T02:33:33Z</dcterms:modified>
  <cp:revision>20</cp:revision>
  <dc:subject/>
  <dc:title>Slide 1</dc:title>
</cp:coreProperties>
</file>